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9D0-D4F1-424A-A176-280136EB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513-2185-411B-BE0F-55ACDBF7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62E-C4B7-4A72-A1D7-DF84140A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1CD-B3CB-4712-9828-0D59DD32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11B-F824-4FC6-8202-9681FC00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E0C-7A0A-48F0-B6FE-657EB9C5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F32-7E52-4249-9EBE-50A83465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13D-BFE9-4D43-886E-F0FA2B2E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519-08A6-42DE-8316-EE0066C7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3F1-D337-447C-AD65-74133D6E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2B9-A364-4A69-A125-79463131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F30-2373-47AD-87CE-DD6CF2B8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BA95-C33B-446A-BBB2-88E81C962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76520" y="24955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22560" y="49338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50920" y="5013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03T11:32:36Z</dcterms:modified>
  <cp:revision>58</cp:revision>
  <dc:subject/>
  <dc:title>Slide 1</dc:title>
</cp:coreProperties>
</file>